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960-3461-4C92-95D7-8B51CEE4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C78-3567-4449-B564-25EA0F76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4CA-957A-4E50-AA34-B0332FA5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AB8-CA32-486D-8F6F-A06DCC30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7BC9-2819-4061-B579-322EB746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C73E-FC82-4527-81CD-758A101D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4876-8432-4354-9167-5C2ED3C5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A12F-CBE4-4C0D-9D08-ABE0512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E774-E1D0-4816-99FA-F1F6B5B7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69C4-91D9-4C4C-94D3-9FB8A6C2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5298-A073-4FF3-9464-432F6CA1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65D-0B19-49EB-A6E8-22009C2B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621F-8A17-4625-B81B-30A5F47E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5A6B-CB0B-4402-A195-B397626C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8C3F-75FE-4092-BA2B-B6A20FF3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AB94-F8DA-485C-89C5-43020EEE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F480-23D9-4794-B1FE-65E342B5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606-9415-4297-B795-804DB0A5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97D-7096-4796-B4DA-04DFC67A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274-DB23-4A3B-A407-66996D3B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E21-C85C-46E5-8C7C-7948E9C1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983-89E2-4A00-B4E0-33B5D609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5EA-357B-4E6F-89AC-9DCC28FD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8C0-8E51-4B7B-B4A1-CB9C7DF2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06FC-DC7D-4F82-99EB-97CFAC6FF3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363F-82A5-4D26-9862-69EB026634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7238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МЕРЕ ЗДРАВЉА И БОЛЕ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опа оболе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оболе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  </a:t>
            </a:r>
            <a:r>
              <a:rPr b="1" lang="sr-CS" sz="37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 х 1 сат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-сати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лекару-сату излож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4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оболе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  </a:t>
            </a:r>
            <a:r>
              <a:rPr b="1" lang="sr-CS" sz="37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 х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сат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20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лекара-сати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лекару-сату излож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чунавање стопа за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читаво подручје или читаву држ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 изложености сваког појединца није могуће израчун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именилац се узима популација средином посматраног периода која верно одражава број особа-година посмат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*у групи од 10 људи умрле су 4 особе током једне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порција умрлих 4/10=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4              4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______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  __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=  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6х1+4х1/2      6+2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3920" y="586692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умрлих по години посматрања (500                                      умрлих на 1000 особа-година посматрањ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ЦИДЕНЦИЈА (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опом инциденције исказује се одн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Броја новонасталих догађаја (оболевања, повређивања)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Збира особа-времена изложености, односно процењеног броја становника средином посматраног периода као прихватљиве апрокси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новонас. догађ. у одређеном пер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ир особа-времена излож. (поп. сред. посм. пе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П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жава однос укупног броја постојећих догађаја (оболевања, повређивања) у једној тачки времена (обично један дан) и броја становника у истој временској тач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бог временске ограничености назива се и тачком превален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догађ. (порем. здравља) у једном трен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=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_________________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пулација у том трен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П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валенција је пропорција (број патолошким стањем захваћених становника дели се са укупним бројем становника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нимак ситуације у једном момен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 изражава ризик оболевања јер је условљена дужином трајања болести (дуготрајни поремећаји здравља могу да имају вишу преваленцију од краткотрајних,без обзира на евентуално нижу  инциденцију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П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да су Р и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билне током времена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 између њих постоји следећи одн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х дужина трајања болести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) У популацији од 100000 становника годишња инциденција поремећаја здравља је 5 на 100000, просечно трајање болести 2 год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=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     Р=5/100000 х 2=10/100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7543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А МОРТАЛИТЕТА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(Mt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дентична стопи инциденције при чему је новонастали догађај – смртни ис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умрлих у одређеном пер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sr-CS" sz="32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ир особа-времена излож. (поп. сред. посм. пе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ндикатор јавно –здравственог значаја одређеног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ЛЕТАЛИТЕТ (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Lt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ероватноћа да се нека болест или повреда заврши фатал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. умр. услед одређеног поремећаја здрављ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sr-CS" sz="32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х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. оболелих од истог порем. здрав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порција која се увек изражава у процентима (од 0%-некомпликован назеб до 100%-беснил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казује на ризик умирања оболелих осо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казатељ је тежине саме боле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ПШТИМ  СТОПАМА изражавамо одно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 између укупног броја оболелих (повређених умрлих)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 збира свих особа-година посматрања (броја свих становника средином периода посматр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Општа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у РС 1994.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пан бр. умрлих у РС током 1994.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х 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пан бр. становника РС 30.06.1994.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Општа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у већини земаља света је 5-10/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граничене су на један пол, једну узрасну групу и/или један узрок оболевања (умир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пецифичне стопе по полу, узрасту и по узор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од рака плућа жена узраста 45-54 год. у Србији током једне год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р. ж- узр. 45-54 г. умрлих од рака пл. у Србији те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r>
              <a:rPr b="1" lang="sr-CS" sz="26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 10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ж. попул. узраста 45-54 г. у Србији 30. јуна исте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3520" y="360360"/>
            <a:ext cx="46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ЦИФИЧНЕ СТО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ОДНО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редност добијена када се једна величина подели другом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: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ројилац (номинатор) и именилац (деноминатор) су две посебне величине од којих ниједна није садржана у друго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нос полова=бр. мушкараца/бр. ж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 упоређивање популација које имају различиту узрасну (или неку другу) структу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случају игнорисања ових разлика настају греш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лиза умирања по узрасним групама у два нас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2057400"/>
          <a:ext cx="8305920" cy="4192560"/>
        </p:xfrm>
        <a:graphic>
          <a:graphicData uri="http://schemas.openxmlformats.org/drawingml/2006/table">
            <a:tbl>
              <a:tblPr/>
              <a:tblGrid>
                <a:gridCol w="1662120"/>
                <a:gridCol w="1662120"/>
                <a:gridCol w="1657440"/>
                <a:gridCol w="1662120"/>
                <a:gridCol w="166212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љ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стан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умрл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на 1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рал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б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зрасно специфичне стопе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идентич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) Опште стопе различите, воде погрешном закључку (у средини са много старачких домаћинстава, без обзира на услове живота, умирање је чешће него у млађој популациј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ПРЕВАЗИЛАЖЕЊЕ ПРОБЛЕМ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-45720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граничавањем посматрања на исте узрасне групе (поређење одојчади са одојчадима, старих са старима итд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-45720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андардизација-други начин да се здравствено стање (оболевање, умирање) у две или више популационих група учини упоредиви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андардизована стопа је фиктивна величина која би постојала када се (узрасна или друга) структура популација које се пореде међусобно не би разликова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РИЗИ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*) Од 100 станара старачког дома током године умре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ра вероватноће јављања неког догађ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ава 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порцијом (бројилац је део именио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изик (вероватноћа) умирања 20/100=0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то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 предпоставком да се умирало равномерно током године, стопа умирања 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sr-CS" sz="2600" spc="-1" strike="noStrike" baseline="50000">
                <a:solidFill>
                  <a:srgbClr val="000000"/>
                </a:solidFill>
                <a:latin typeface="Arial"/>
              </a:rPr>
              <a:t>_________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600" spc="-1" strike="noStrike" baseline="50000">
                <a:solidFill>
                  <a:srgbClr val="000000"/>
                </a:solidFill>
                <a:latin typeface="Arial"/>
              </a:rPr>
              <a:t>____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0,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00-(20:2)  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ОКАЗАТЕЉИ  РИЗ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псолутни ризик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жени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зик јављањ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г догађаја (болести, повреде, смрти) у посматраној популацији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0/100=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лативни ризик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зика међу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оженим и неизложеним особ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изложених /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неизлож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трибутивни ризик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а ризика међу изложеним и неизложеним особ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изложених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неизлож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0066"/>
                </a:solidFill>
                <a:latin typeface="Arial"/>
              </a:rPr>
              <a:t>ПОКАЗАТЕЉИ  РИЗИКА</a:t>
            </a:r>
            <a:br>
              <a:rPr sz="2400"/>
            </a:br>
            <a:r>
              <a:rPr b="1" lang="sr-C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мирање у јединици ангажованој на чишћењу минских поља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38862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*) ризик (пропорција) умирања или кумулативна инциденција умир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псолутни ризи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1,3 за целу попу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,5 и 0,5 за две одговарајућ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трибутивни ризи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1,5-0,5=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лативни ризи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1,5/0,5=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5800" y="1219320"/>
          <a:ext cx="7924680" cy="247644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пос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ангажовани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умрли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 (%)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 на терен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ст. Подршка (кувари, возачи,..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ОПОР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рста односа у којој је бројилац укључен у именилац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:a+b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ставља однос дела према цели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порција м. у колективу=бр.м / бр.м+бр.ж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ДЕК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казатељ настао посматрањем две или више променљивих величина (сажети показате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Изражен као одно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ндекс телесне масе = тежина/висина</a:t>
            </a:r>
            <a:r>
              <a:rPr b="0" lang="sr-C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Изражен као зб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пгаров скор =збир одабраних знакова              животности новорођенч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свођење различитих знакова                                                                                            животности на један сумарни показате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/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- временски континуиран проц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- вр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ава просечну брзину неког континуалног проц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ра промене једне количине по јединици друге количине од које зав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Е у епидемиологији и медици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нос у коме је време елеменат имениоца и у коме постоји посебна веза између бројиоца и именио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жавају брзину јављања односно кретања неке појаве (рађања, оболевања, ширења инфекције, умирања) у јединици врем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ројила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= збир посматраних појава (укупан број умрлих од неке боле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менила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= збир периода током којих је сваки испитаник био праћен (особе-време; збир времена посматрања; ризику изложена популац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 узима у обзир разлику између испитаника праћених све време и оних који су посматрану популацију напустили из различитих разлога ( пресељење, смрт ит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СТОПЕ у епидемиологији и медицин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Карактеристике стоп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38224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аве сто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Стопа рађања (бр. новорођених на 1000 становника током годин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Стопа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(“густина инциденције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- Стопа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Mt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(“сила морталитета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опорције традиционално назване стоп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еваленција (“стопа” преваленц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Кумулативна инциденција (“стопа” кумулативне инциденц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Леталитет (“стопа” леталите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рачунавање стопа за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колектив (малу груп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менилац је збир трајања изложености сваког поједин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сваког испитаника израчунати време изложе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0 лекара превентиваца, предавање трајало 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 од легионелозе оболело 6 учес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порција оболелих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b, CI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“стопа” јављ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6/20</a:t>
            </a:r>
            <a:r>
              <a:rPr b="0" lang="sr-Latn-CS" sz="2600" spc="-1" strike="noStrike" baseline="-20000">
                <a:solidFill>
                  <a:srgbClr val="000000"/>
                </a:solidFill>
                <a:latin typeface="Arial"/>
              </a:rPr>
              <a:t>h+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2=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/10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20=20%   Разлика између две пропорциј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4/10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40=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0%   Мања отпорност епидемиолог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20-09-18T08:46:1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