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198-F21C-48FB-8235-207177F1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2C6-B56C-4EEF-BA6D-4EC94426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796-8882-4DD7-BCF6-4ED99664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900-9116-4D04-B802-C1FD8055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0C00-49FE-4CD0-9779-E2CD2C0D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A0FC-C24F-47EA-AE62-5D2CD40D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C2A8-BB13-4595-9A25-8C69CD62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2F6A-FAF2-45A1-A18C-B2B06843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FECA-C179-4811-98B5-FFD58BB9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2C9C-FE77-4C5B-9402-57B3B941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4BEF-C293-4296-866E-695F526B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A9F-1733-44AE-9212-4C8A41B7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AD6E-2A15-4AD9-9AEA-E51A4E6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8644-6962-4D33-BA6E-F5B834DA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C5B7-E8DF-452E-82F8-1DFB0D88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DDA6-6337-4028-A4F4-4C1F9E2E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232B-5A04-4672-A0B3-D8CB9CDB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CE9-786A-4B85-900A-E5B3172F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404-E708-406B-847E-7FE8C7B0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8B8-4877-4266-A37F-8A889C45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3A2-4FDE-4549-B806-29AD65C4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EFF-86CD-47E5-90D8-35B53EC7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F1A-B97F-4708-A0EC-FA8EC7C9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F84-90AD-4D17-B08F-C8080D9D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E460-A06C-4EE6-96D7-8172F86DC7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0001-C380-4C39-AB0B-5EF7C5B12F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907560"/>
            <a:ext cx="670392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 Cirilica"/>
              </a:rPr>
              <a:t>Извори података о оболевању и умирању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7543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 Cirilica"/>
              </a:rPr>
              <a:t>Категорије извора података о оболевању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1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2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Регистр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оболел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клицонош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ост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3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одаци амбулантно поликлиничких   устан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4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5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Остали изв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677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- 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Циљ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лна контрола епидемиолошке ситуациј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очавање евентуалног пораст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роја оболел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узимање противепидемијских м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валуација ефикасност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њених мера сузбиј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 територији РС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авезно се пријављуј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7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лести; са неким изузецим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хинококоз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лепра и сл.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ч је о акутним поремећајим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2150640"/>
            <a:ext cx="856908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 Cirilica"/>
              </a:rPr>
              <a:t>Проценат зависи од</a:t>
            </a:r>
            <a:r>
              <a:rPr b="1" lang="en-US" sz="1900" spc="-1" strike="noStrike">
                <a:solidFill>
                  <a:srgbClr val="000000"/>
                </a:solidFill>
                <a:latin typeface="Arial Cirilic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Развијен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доступн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 коришћења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здравствене служ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Тежине клиничке слик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када је у питању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лако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 оболењ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болесник се и НЕ обраћа лекар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Учестал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атипичн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облик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боле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инапарентн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нфек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Диференцијално-дијагностичк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проблем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нпр.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антропозооноз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често промичу 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под другом дијагнозом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Ажурности пријављивањ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тд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200664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 Међународном здравственом правилник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све земље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чланиц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ЗО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дужне су да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најбржим путем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телексом или факсом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ријаве колер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кугу и жуту грозниц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(СУМЊА И ПОТВРДА ПОСТИЈ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д надзором СЗО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егавац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вратна грозница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аралитички полиомијелитис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маларија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грип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 ...</a:t>
            </a:r>
            <a:r>
              <a:rPr b="0" lang="en-US" sz="21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2. Регистри?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cc00"/>
                </a:solidFill>
                <a:latin typeface="Times Cirilica"/>
                <a:ea typeface="Arial"/>
              </a:rPr>
              <a:t>►</a:t>
            </a:r>
            <a:r>
              <a:rPr b="0" lang="en-US" sz="3000" spc="-1" strike="noStrike">
                <a:solidFill>
                  <a:srgbClr val="000000"/>
                </a:solidFill>
                <a:latin typeface="Times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главном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ухвата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једине хроничне болест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/или ста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cc00"/>
                </a:solidFill>
                <a:latin typeface="Times Cirilica"/>
                <a:ea typeface="Arial"/>
              </a:rPr>
              <a:t>►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тпунији начин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аће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ретања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могућавају да с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ваком тренутк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полаже не само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подацима о инциденциј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ћ и о преваленциј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јању и исход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ђеног патолошког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Прецизно сагледа учест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ост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распрострањеност, ток и про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 оболели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На територији Србиј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воде се регистр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за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11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односно група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психоз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реуматску грозниц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малигна обољењ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шећерну болес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ендемску нефропатиј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прогресивне мишићне дистроф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хемофилиј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хроничну инсуфицујенцију бубрег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коронарну болест срц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опструктивну болест плу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наркоман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 клицонош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ртотека за лица која су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болела поједин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олести и/ил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лучују њихове проузроковач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бољења која могу да доведу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 хроничног клицоноштва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цревне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алмонелозе и шигел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ођење евиденциј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осилаца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HBs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нтигена и антите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лучењ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yphi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atyphi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(позивање на контролне преглед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Остали регистр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Регистри различитих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врста инвалидности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значај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са социјалне и административне тачке гледиш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процену епидемиолошке ситуације</a:t>
            </a:r>
            <a:r>
              <a:rPr b="0" lang="en-US" sz="23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предузимање ме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 Cirilica"/>
              </a:rPr>
              <a:t>Извори података о оболевању и умирањ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Услови за мерење </a:t>
            </a:r>
            <a:r>
              <a:rPr b="1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учесталости</a:t>
            </a:r>
            <a:r>
              <a:rPr b="0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 болести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Располагање подацима о ПОПУЛАЦИЈИ (СТАНОВНИШТВУ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Располагање подацима о ОБОЛЕЛИМ, односно УМРЛИМ особ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3</a:t>
            </a: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.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 Подаци амбулантно-поликлиничких установ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ољења и ста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тврђена код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Ехоспитализованих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мбуланте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испанзер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мови здрављ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 друге здравствене установе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ебно с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рађу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 објављу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одговарајућим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убликациј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амбулантно-поликлиничких установ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Омогућавају сагледавање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 Cirilica"/>
              </a:rPr>
              <a:t>учесталости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 и релативне заступљености појединих патолошких стања дијагностикованих у служби опште медицине и у специјалистичким служб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Здравствени радници самостално анализирају податке везане за популацију о чијем се здрављу старај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748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4.</a:t>
            </a: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о хоспитализацији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556000"/>
            <a:ext cx="8362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Значајан извор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орбидитетних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одатак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(прецизније сазнање о учесталости и структури појединих поремећаја здравља) због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 Cirilica"/>
              </a:rPr>
              <a:t>квалитета дијагнос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50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r>
              <a:rPr b="1" lang="en-US" sz="35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cccc00"/>
                </a:solidFill>
                <a:latin typeface="Arial Cirilica"/>
              </a:rPr>
              <a:t>(о особама леченим у стационарној установ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719000"/>
            <a:ext cx="89647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Ограничења при интерпретацији података</a:t>
            </a:r>
            <a:r>
              <a:rPr b="1" lang="sr-CS" sz="2100" spc="-1" strike="noStrike">
                <a:solidFill>
                  <a:srgbClr val="000000"/>
                </a:solidFill>
                <a:latin typeface="Arial Cirilica"/>
              </a:rPr>
              <a:t>, погрешни закључци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ка обољењ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че се болничк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век или скоро увек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 нека никад или скоро ника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О карактеристикама</a:t>
            </a:r>
            <a:r>
              <a:rPr b="1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ређене боле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честалости појединих манифестација</a:t>
            </a:r>
            <a:r>
              <a:rPr b="1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ли ризику неповољног исход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ди се само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на основ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хоспиталн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татистик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р се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игнориш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блаж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облици за које постој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ња вероватноћ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 ће захтевати болнички третман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ансе да се буде хоспитализован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словљене су развијеношћу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дравствене служб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стањем болничк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пацитета а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оквиру исте териториј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јаднаке су з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шите социјалне слојев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r>
              <a:rPr b="1" lang="en-US" sz="35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cccc00"/>
                </a:solidFill>
                <a:latin typeface="Arial Cirilica"/>
              </a:rPr>
              <a:t>(о особама леченим у стационарној установ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6664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Latn-CS" sz="16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граничења при интерпретацији података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, погрешни закључц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sr-Latn-CS" sz="24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о израчунат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бидитет на основ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атака 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оспитализациј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j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j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менитењ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пулација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оро немогуће установ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cccc00"/>
                </a:solidFill>
                <a:latin typeface="Arial Cirilica"/>
              </a:rPr>
              <a:t>5.Остали извори</a:t>
            </a:r>
            <a:r>
              <a:rPr b="1" lang="en-US" sz="3900" spc="-1" strike="noStrike">
                <a:solidFill>
                  <a:srgbClr val="330066"/>
                </a:solidFill>
                <a:latin typeface="Arial Cirilica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44620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Заводи за здравствено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и пензијско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осигур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Систематски прегледи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појединих категорија попул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9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900" spc="-1" strike="noStrike">
                <a:solidFill>
                  <a:srgbClr val="cccc00"/>
                </a:solidFill>
                <a:latin typeface="Arial Cirilica"/>
              </a:rPr>
              <a:t>Остали извори</a:t>
            </a:r>
            <a:r>
              <a:rPr b="1" lang="en-US" sz="3900" spc="-1" strike="noStrike">
                <a:solidFill>
                  <a:srgbClr val="330066"/>
                </a:solidFill>
                <a:latin typeface="Arial Cirilica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Анкетирање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презентативног узорк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пул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Циљна теренска испитив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191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 Cirilica"/>
              </a:rPr>
              <a:t>ПОДАЦИ</a:t>
            </a:r>
            <a:r>
              <a:rPr b="1" lang="en-US" sz="36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600" spc="-1" strike="noStrike">
                <a:solidFill>
                  <a:srgbClr val="330066"/>
                </a:solidFill>
                <a:latin typeface="Arial Cirilica"/>
              </a:rPr>
              <a:t>О ПОПУЛАЦИЈИ </a:t>
            </a:r>
            <a:r>
              <a:rPr b="1" lang="sr-CS" sz="4400" spc="-1" strike="noStrike">
                <a:solidFill>
                  <a:srgbClr val="330066"/>
                </a:solidFill>
                <a:latin typeface="Arial Cirilica"/>
              </a:rPr>
              <a:t>?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3259080"/>
            <a:ext cx="71298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ПОПИ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Други извори података о попул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ПОДАЦИ</a:t>
            </a:r>
            <a:r>
              <a:rPr b="1" lang="en-US" sz="32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(ИЗВОРИ ПОДАТАКА)</a:t>
            </a:r>
            <a:r>
              <a:rPr b="1" lang="en-US" sz="32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О ПОПУЛАЦИЈИ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- </a:t>
            </a:r>
            <a:r>
              <a:rPr b="1" lang="sr-CS" sz="4200" spc="-1" strike="noStrike">
                <a:solidFill>
                  <a:srgbClr val="cccc00"/>
                </a:solidFill>
                <a:latin typeface="Arial"/>
              </a:rPr>
              <a:t>ПОПИСИ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2295360"/>
            <a:ext cx="8642160" cy="27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 Пописи становништва</a:t>
            </a:r>
            <a:r>
              <a:rPr b="1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Arial Cirilica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веобухват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узд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ач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вор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датака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 популациј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ложеној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изику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болевања</a:t>
            </a:r>
            <a:r>
              <a:rPr b="0" lang="sr-Latn-C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(умирања)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 Cirilica"/>
                <a:ea typeface="Arial"/>
              </a:rPr>
              <a:t>       →</a:t>
            </a:r>
            <a:r>
              <a:rPr b="0" lang="sr-Latn-CS" sz="25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целокупној ил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 Cirilica"/>
                <a:ea typeface="Arial"/>
              </a:rPr>
              <a:t>       →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јединим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њеним сегменти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cccc00"/>
                </a:solidFill>
                <a:latin typeface="Arial"/>
              </a:rPr>
              <a:t>Други извори података о популацији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Подаци месне заједниц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Бирачки спискови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Latn-CS" sz="3000" spc="-1" strike="noStrike">
                <a:solidFill>
                  <a:srgbClr val="330066"/>
                </a:solidFill>
                <a:latin typeface="Arial Cirilica"/>
                <a:ea typeface="Arial"/>
              </a:rPr>
              <a:t>→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спитивања везан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мо з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пулацију одраслих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Списак пореских обвезника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Latn-CS" sz="3000" spc="-1" strike="noStrike">
                <a:solidFill>
                  <a:srgbClr val="330066"/>
                </a:solidFill>
                <a:latin typeface="Arial Cirilica"/>
                <a:ea typeface="Arial"/>
              </a:rPr>
              <a:t>→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јединиц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матрања домаћинств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 терену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ad hoc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прикупљени пода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 Cirilica"/>
              </a:rPr>
              <a:t>Категорије извора података о умирању и рађању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1</a:t>
            </a: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.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Извештаји о узроку смр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2.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матичне служб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cc00"/>
                </a:solidFill>
                <a:uFillTx/>
                <a:latin typeface="Arial Cirilica"/>
              </a:rPr>
              <a:t>1.</a:t>
            </a: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Извештаји о узроку смрти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21440" cy="32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Законска обавеза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да лекар за умрло лице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попуни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извештај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о узроку смрти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  <a:ea typeface="Arial"/>
              </a:rPr>
              <a:t>надлежни матичари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 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регион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Републички завод за статистик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7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 Погодност ослањања на морталитетну статистик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cc00"/>
                </a:solidFill>
                <a:latin typeface="Arial Cirilica"/>
              </a:rPr>
              <a:t>2.</a:t>
            </a: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Подаци матичне службе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годност ослањања на податке матичне служ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 процену промене броја стано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матрањ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пидемиолошк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туациј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 ужем подруч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Подаци матичне службе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 Cirilica"/>
                <a:ea typeface="Arial"/>
              </a:rPr>
              <a:t>Опрезност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ограничења)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 Cirilica"/>
                <a:ea typeface="Arial"/>
              </a:rPr>
              <a:t> при закључивању на основу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датака матичне службе,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огрешни закључци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CS" sz="2400" spc="-1" strike="noStrike">
                <a:solidFill>
                  <a:srgbClr val="330066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евиденцији се вод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а териториј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лежне матич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жб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МР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лиц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 обзир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мест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иховог сталног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равк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cccc00"/>
                </a:solidFill>
                <a:latin typeface="Arial Cirilica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рне тачке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гистралних путев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а са великим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ем несрећа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, привидно високе стопе мортал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тељ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рл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ao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рођен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ва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друч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oj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пада под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лежно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тичне служб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евидентирај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њига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Latn-CS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330066"/>
                </a:solidFill>
                <a:latin typeface="Arial"/>
                <a:ea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одаци су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КУДНИ</a:t>
            </a:r>
            <a:r>
              <a:rPr b="0" lang="sr-CS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је реч 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ирањ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уство дијагноз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могућу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чунавањ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амо општих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и не и по узрок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их стопа мортал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00:34Z</dcterms:created>
  <dc:creator>User</dc:creator>
  <dc:description/>
  <dc:language>en-US</dc:language>
  <cp:lastModifiedBy> </cp:lastModifiedBy>
  <dcterms:modified xsi:type="dcterms:W3CDTF">2016-12-30T09:15:19Z</dcterms:modified>
  <cp:revision>214</cp:revision>
  <dc:subject/>
  <dc:title>Slide 1</dc:title>
</cp:coreProperties>
</file>