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A431-631F-4F43-9B98-71F34B4F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6819-1FB4-48B6-A54A-C750442E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019A-849F-40C8-B3CC-D873D118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FC10-2F7E-4674-810A-D3DD6D65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4DA5-2644-4709-BA66-16F7ADAA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48E5-7F5A-4331-A335-C2FC973E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33BD-B0E7-4BD1-BF43-45E240A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7B4F-6640-4A01-92ED-1205E89A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0D2D-F206-4CB9-8CFD-B8FE4E93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5933-61E4-46E0-8F76-25EF288A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BB47-5484-422E-804C-784C7BD8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CA8AA-F8F0-4FB1-B3C7-31DF4477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B563-53FF-42EE-9A0F-25623825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1F1F-7CAB-48A4-B109-66066ED7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FC16-0CBA-4CEE-983D-5087D675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B29D-7A27-42C7-8F51-7F556997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65A8-30E8-4DD3-859B-BC652AED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EC16-C91F-41BC-AAF7-1FFE11DF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16ED-B904-4713-9D27-0BB1B0B0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C977-9E55-4EA2-8D53-2C63E960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B2D5-869A-4443-9E25-482E6F78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7BE8-B9FC-43FB-9890-D9DD5751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8A35-4002-4B95-B5C7-BDEE9D24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48F6-1E8F-4D57-9D09-4A9720F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F946-F8E2-488C-B1AB-9DACFF1EC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4283-569D-46E8-A0E8-3E9B12B50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ОСНОВНИ ПОЈМОВИ И ДЕФИНИ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64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ДИЦИНСКИ ФАКУЛТЕТ КРАГУЈЕВ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 СТРАТЕГИЈА ЕПИДЕМИОЛОГИЈ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ДИ ОСТВАРИВАЊА ЦИЉЕ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7559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Дескриптивна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Аналитичк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Експеримента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СТРАТЕГИЈА ЕПИДЕМИОЛОГ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 ОСТВАРИВАЊА ЦИЉЕ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 1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 Cirilica"/>
              </a:rPr>
              <a:t>Дескриптивна</a:t>
            </a:r>
            <a:r>
              <a:rPr b="0" lang="sr-Latn-C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Оруђе за прикупљање</a:t>
            </a:r>
            <a:r>
              <a:rPr b="0" lang="en-US" sz="3300" spc="-1" strike="noStrike">
                <a:solidFill>
                  <a:srgbClr val="000000"/>
                </a:solidFill>
                <a:latin typeface="Arial Cirilica"/>
              </a:rPr>
              <a:t>,</a:t>
            </a:r>
            <a:r>
              <a:rPr b="0" lang="sr-Latn-C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сагледавање и </a:t>
            </a:r>
            <a:r>
              <a:rPr b="0" lang="en-U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интерпретацију епидемиолошких података</a:t>
            </a:r>
            <a:r>
              <a:rPr b="0" lang="sr-Latn-C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 педантне дескрипц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ис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истиче хипотеза (Х)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могућем узрок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пажене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фрек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 СТРАТЕГИЈА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ЕПИДЕМИОЛОГ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 ОСТВАРИВАЊА ЦИЉЕ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2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Везана за епидемиолошка 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ира постављену хипотез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утицају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постављеног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ока на појаву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–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очава разлик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међу две групе испитаник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- D(E)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i D* (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*)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сервацион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уд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њ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СТРАТЕГИЈА ЕПИДЕМИОЛОГ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 ОСТВАРИВАЊА ЦИЉЕ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 3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КСПЕРИМЕНТА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Везана за епидемиолошка истраживањ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ира постављену хипотез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периментални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ивање ефеката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ређене мер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кцинациј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луоризациј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одирањ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здравље људ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ступ јединствен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за све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ремећаје здрављ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АРАЗНЕ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ЕЗАРАЗНЕ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стирање хипотезе о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везаности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узрока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оболева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ђе се корис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у у питању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аразне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есто није применљ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поузданији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пчан са низом у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b)</a:t>
            </a:r>
            <a:r>
              <a:rPr b="0" lang="sr-Latn-CS" sz="1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алитичк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г приступ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етиолошким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питивањи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базиран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опсерв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сервацијом процењујемо допринос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астана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ипови сту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Студије засноване на посматрању (опсервационе)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обухватају примен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дескриптивне мет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аналитичке мет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КСПЕРИМЕНТАЛНЕ (ИНТЕРВЕНТНЕ)</a:t>
            </a:r>
            <a:r>
              <a:rPr b="1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ДЕСКРИПТИВНЕ СТУДИЈЕ ОПИСУ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072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Учесталост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дистрибуцију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оремећаја здрављ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у односу н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особа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време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место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настанка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ДЕСКРИПТИВНЕ СТУДИЈЕ траже одговор на следећа пи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►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олева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изација оболелих у простору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ализа одговора на питања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KO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, ГДЕ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одговор на питањ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ЗАШТ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дошло до појаве болести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ДЕСКРИПТИВНЕ СТУДИЈЕ</a:t>
            </a:r>
            <a:r>
              <a:rPr b="0" lang="sr-Latn-CS" sz="4800" spc="-1" strike="noStrike">
                <a:solidFill>
                  <a:srgbClr val="000000"/>
                </a:solidFill>
                <a:latin typeface="Arial Cirilica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тиологија болести поз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тиологија болести није позната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ДЕФИНИЦИЈА ЕПИДЕМИОЛОГИЈЕ</a:t>
            </a:r>
            <a:r>
              <a:rPr b="0" lang="sr-Latn-CS" sz="4400" spc="-1" strike="noStrike">
                <a:solidFill>
                  <a:srgbClr val="000000"/>
                </a:solidFill>
                <a:latin typeface="Times Cirilica"/>
              </a:rPr>
              <a:t> 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наука која се бав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99ff"/>
                </a:solidFill>
                <a:latin typeface="Arial Cirilica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Cirilica"/>
                <a:ea typeface="Arial"/>
              </a:rPr>
              <a:t>►</a:t>
            </a:r>
            <a:r>
              <a:rPr b="0" lang="sr-Latn-CS" sz="2400" spc="-1" strike="noStrike">
                <a:solidFill>
                  <a:srgbClr val="0000ff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Испитивањем</a:t>
            </a:r>
            <a:r>
              <a:rPr b="0" lang="sr-Latn-CS" sz="2400" spc="-1" strike="noStrike">
                <a:solidFill>
                  <a:srgbClr val="9999ff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ос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трибуције и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терминанти ста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догађа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заних са здравље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некој популацији 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Cirilica"/>
                <a:ea typeface="Arial"/>
              </a:rPr>
              <a:t>►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ено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зултата тих истражива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контроли здравствених пробле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Дефиницијом обухваћени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адржај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пидемиолошких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циљ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пидемиолошких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АНАЛИТИЧКЕ СТУДИЈЕ 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9999ff"/>
                </a:solidFill>
                <a:latin typeface="Arial"/>
              </a:rPr>
              <a:t>Студије случајеви - контроле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case-control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study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9999ff"/>
                </a:solidFill>
                <a:latin typeface="Arial"/>
              </a:rPr>
              <a:t>Кохортне студиј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- 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study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АНАЛИТИЧКЕ СТУДИЈЕ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99ff"/>
                </a:solidFill>
                <a:latin typeface="Arial"/>
              </a:rPr>
              <a:t>Студија случајеви - контрол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se-control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study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мнестичк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постављено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з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болели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(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лучајев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и     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онтрол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поређују с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односу на учесталост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о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позиц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отетично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очно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ериод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и је претходио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АНАЛИТИЧКЕ СТУДИЈЕ 3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Кохортне студи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study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постављеног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зро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оследиц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 здрав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зложен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тетично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чно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у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еизлож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ређују с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однос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а здрављ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ређеном периоду посмат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СУШТИНА АНАЛИТИЧКЕ СТУДИЈ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Уочавање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РАЗЛИКА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између две групе испит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групе особа које су или </a:t>
            </a:r>
            <a:r>
              <a:rPr b="0" lang="sr-CS" sz="3200" spc="-1" strike="noStrike">
                <a:solidFill>
                  <a:srgbClr val="ff0000"/>
                </a:solidFill>
                <a:latin typeface="Arial Cirilica"/>
              </a:rPr>
              <a:t>оболели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или </a:t>
            </a:r>
            <a:r>
              <a:rPr b="0" lang="sr-CS" sz="3200" spc="-1" strike="noStrike">
                <a:solidFill>
                  <a:srgbClr val="ff99ff"/>
                </a:solidFill>
                <a:latin typeface="Arial Cirilica"/>
              </a:rPr>
              <a:t>изложени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дејству неког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одговарајуће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контролне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групе (необолели, неизложе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820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Тестирање хипотезе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Х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)?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Х: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и веза између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ушењ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 коронар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намнестичка студиј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2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оба са коронарном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олешћу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лучајеви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400 особ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коронарн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мају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троле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 свих испитаник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жити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датк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о пушачким навика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■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пу оболелих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контролн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пореди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односу н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честалост пушењ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ећи % пушача</a:t>
            </a:r>
            <a:r>
              <a:rPr b="1" lang="en-US" sz="2800" spc="-1" strike="noStrike">
                <a:solidFill>
                  <a:srgbClr val="ff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у групи оболелих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де у прилог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ављеној хипоте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589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Тестирање хипотезе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Х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)?</a:t>
            </a:r>
            <a:br>
              <a:rPr sz="28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Latn-CS" sz="36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и веза између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ушењ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 коронар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хортна студ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упа пушач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група непушач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не у дужем пери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боле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 коронар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Већи % оболелих у групи пушач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де у прилог постављеној хипоте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6436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КСПЕРИМЕНТАЛН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Потврда хипотез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стиране аналитичким студија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контролом истраживач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интервениш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 или виш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ЕКСПЕРИМЕНТАЛНЕ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7d"/>
                </a:solidFill>
                <a:latin typeface="Arial"/>
              </a:rPr>
              <a:t>ЦИЉ</a:t>
            </a:r>
            <a:r>
              <a:rPr b="1" lang="sr-Latn-CS" sz="2000" spc="-1" strike="noStrike">
                <a:solidFill>
                  <a:srgbClr val="00007d"/>
                </a:solidFill>
                <a:latin typeface="Arial Cirilic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000" spc="-1" strike="noStrike">
                <a:solidFill>
                  <a:srgbClr val="9999ff"/>
                </a:solidFill>
                <a:latin typeface="Arial"/>
              </a:rPr>
              <a:t>ефекат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н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99ff"/>
                </a:solidFill>
                <a:latin typeface="Arial"/>
              </a:rPr>
              <a:t>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о-последичн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е између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г фактор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дрављ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 етичких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га није могуће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99ff"/>
                </a:solidFill>
                <a:latin typeface="Arial"/>
              </a:rPr>
              <a:t>Ин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о-последичн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е између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г фактор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дрављ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иминис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етичног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ог фактора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Arial Cirilica"/>
              </a:rPr>
              <a:t>-могу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испитивање ефикасности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ских средстав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 поступака и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вентивних 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Latn-C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99ff"/>
                </a:solidFill>
                <a:latin typeface="Arial"/>
              </a:rPr>
              <a:t>Клинички аспект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дсуство 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ствено стање популације ОД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99ff"/>
                </a:solidFill>
                <a:latin typeface="Arial"/>
              </a:rPr>
              <a:t>Епидемиолошки а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дсуство 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сутни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фактор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воде до 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е услов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угрозе осетљиве особ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туација с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цењује НЕПОВОЉ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Једна од карактеристика која епидемиологију разликује од клиничке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7d"/>
                </a:solidFill>
                <a:latin typeface="Arial Cirilica"/>
              </a:rPr>
              <a:t>ЕПИДЕМИЈА</a:t>
            </a:r>
            <a:r>
              <a:rPr b="1" lang="sr-Latn-CS" sz="3600" spc="-1" strike="noStrike">
                <a:solidFill>
                  <a:srgbClr val="000000"/>
                </a:solidFill>
                <a:latin typeface="Times Cirilica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Cirilica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YU"/>
              </a:rPr>
              <a:t>epi</a:t>
            </a:r>
            <a:r>
              <a:rPr b="0" i="1" lang="en-US" sz="3600" spc="-1" strike="noStrike">
                <a:solidFill>
                  <a:srgbClr val="000000"/>
                </a:solidFill>
                <a:latin typeface="Times Cirilic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Cirilica"/>
              </a:rPr>
              <a:t>=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на</a:t>
            </a:r>
            <a:r>
              <a:rPr b="0" lang="en-US" sz="3600" spc="-1" strike="noStrike">
                <a:solidFill>
                  <a:srgbClr val="000000"/>
                </a:solidFill>
                <a:latin typeface="Times Cirilica"/>
              </a:rPr>
              <a:t>; </a:t>
            </a:r>
            <a:r>
              <a:rPr b="0" i="1" lang="en-US" sz="3600" spc="-1" strike="noStrike">
                <a:solidFill>
                  <a:srgbClr val="000000"/>
                </a:solidFill>
                <a:latin typeface="Times YU"/>
              </a:rPr>
              <a:t>demos</a:t>
            </a:r>
            <a:r>
              <a:rPr b="0" i="1" lang="en-US" sz="3600" spc="-1" strike="noStrike">
                <a:solidFill>
                  <a:srgbClr val="000000"/>
                </a:solidFill>
                <a:latin typeface="Times Cirilica"/>
              </a:rPr>
              <a:t> =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народ</a:t>
            </a:r>
            <a:r>
              <a:rPr b="0" lang="en-US" sz="3600" spc="-1" strike="noStrike">
                <a:solidFill>
                  <a:srgbClr val="000000"/>
                </a:solidFill>
                <a:latin typeface="Times Cirilica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Појава болести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или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другог догађаја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везаног за здравље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Latn-CS" sz="3200" spc="-1" strike="noStrike">
                <a:solidFill>
                  <a:srgbClr val="00007d"/>
                </a:solidFill>
                <a:latin typeface="Arial Cirilica"/>
              </a:rPr>
              <a:t>(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нпр. пушења</a:t>
            </a:r>
            <a:r>
              <a:rPr b="0" lang="sr-Latn-CS" sz="3200" spc="-1" strike="noStrike">
                <a:solidFill>
                  <a:srgbClr val="00007d"/>
                </a:solidFill>
                <a:latin typeface="Arial Cirilica"/>
              </a:rPr>
              <a:t>)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у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броју који </a:t>
            </a:r>
            <a:r>
              <a:rPr b="1" lang="sr-CS" sz="3600" spc="-1" strike="noStrike" u="sng">
                <a:solidFill>
                  <a:srgbClr val="00007d"/>
                </a:solidFill>
                <a:uFillTx/>
                <a:latin typeface="Arial Cirilica"/>
              </a:rPr>
              <a:t>превазилази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00007d"/>
                </a:solidFill>
                <a:uFillTx/>
                <a:latin typeface="Arial Cirilica"/>
              </a:rPr>
              <a:t>њихову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00007d"/>
                </a:solidFill>
                <a:uFillTx/>
                <a:latin typeface="Arial Cirilica"/>
              </a:rPr>
              <a:t>уобичајену учесталост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у одређеној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популацији (важећа дефиници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1723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 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960</a:t>
            </a:r>
            <a:r>
              <a:rPr b="0" lang="sr-CS" sz="4000" spc="-1" strike="noStrike">
                <a:solidFill>
                  <a:srgbClr val="000000"/>
                </a:solidFill>
                <a:latin typeface="Arial Cirilica"/>
              </a:rPr>
              <a:t>.–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Међународни симпозијум у Пра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Епидемиологија је самосталн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грана медицинске наук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кој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е бав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изучавање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узрока појаве и ширењ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заразних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у људском друштв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примењујући стечена зн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за превенци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узбијање и контролу 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ликвидацију ових болести.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836640"/>
            <a:ext cx="828036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Cirilica"/>
              </a:rPr>
              <a:t>Карактеристике епидем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Ciril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Б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олест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Cirilic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мора бити заразна (трауматиз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Ciril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псолутни број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оболел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Cirilic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мора бити велики (он је 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неуобичајен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у односу на популацију и временски пери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3.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ораст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број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Cirilic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мора настати нагло, у кратком интервалу (епидемија рака плућа траје 50 година и није достигла врхуна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ПАНДЕМИЈ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ирење епидем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огромна пространств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угрожавањ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пулације више континенат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тензивност јављ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ип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ндем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Настанак епидемије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(интерепидемијски пери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њени услов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остојећем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аришту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 броја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објашњење законито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доводе до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пидемије неопходно ј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матрати учесталост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ести у  времену и простор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међуепидемијском пери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95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Настанак епидемије (интерепидемијски пери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и степена учестало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олести кој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ходе епидем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д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орад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суство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хуманој попул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7d"/>
                </a:solidFill>
                <a:latin typeface="Arial Cirilica"/>
              </a:rPr>
              <a:t>ЕНДЕМИЈ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Стално присуство обоље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еђу становници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дређеног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граничена просторн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али не и временск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Ендемска боле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=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све које су аутохто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домаће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еђу становници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дређеног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7d"/>
                </a:solidFill>
                <a:latin typeface="Arial Cirilica"/>
              </a:rPr>
              <a:t>СПОРАДИЧНОС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Појава појединачних случајева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болести која није аутох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На териториј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унета са неког подруч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Екдемск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егзотичн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=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оже било када да се импорту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Епидемија вариоле н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Косов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1972.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175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болел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35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умрл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болести незаразне етиологи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огу да се јаве спорад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ДСУСТВО БОЛ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јава болести на подручју где је раније није било - разлика у односу на спорадично јављање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99ff"/>
                </a:solidFill>
                <a:latin typeface="Arial"/>
              </a:rPr>
              <a:t>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суство импортованих резерво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суство болести усле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дсуства агенса у спољашњ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генси присутни али патогени ефекат није испољ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остала изложеност осетљи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ременске и просторне одлике масовних поремећаја здрављ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060640"/>
          <a:ext cx="8245440" cy="4102200"/>
        </p:xfrm>
        <a:graphic>
          <a:graphicData uri="http://schemas.openxmlformats.org/drawingml/2006/table">
            <a:tbl>
              <a:tblPr/>
              <a:tblGrid>
                <a:gridCol w="1819080"/>
                <a:gridCol w="1170000"/>
                <a:gridCol w="2376360"/>
                <a:gridCol w="2880000"/>
              </a:tblGrid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Временско ограничењ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Просторно ограниче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ЕПИД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Ендем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Пандем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СПОРАДИЧ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утори са запад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or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u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ширу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н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тале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СОВН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патолошка ст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авајућ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 само н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ективну етиологи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зуча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В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ремећај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ља у популациј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 обзира на то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се јавља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о масовна појав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 не 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 обзира на њихову етиологи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ктуелна дефини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ологија је нау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честал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дистрибуци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зличитих поремећа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ља у популацији и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актор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ји условљава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њихов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 у циљ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њихове превенције и сузбиј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57200"/>
            <a:ext cx="7920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irilica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и подручја истраживањ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д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им и величин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оче би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рактеристике оболел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сто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крит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шта је то заједнич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што 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и погођ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у узрочни фаскто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дит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и спречав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сузбиј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рманентно пратити ефикас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алуирати резулта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узетих ме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пунити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 Cirilica"/>
              </a:rPr>
              <a:t>Основни циљ епидемиологије</a:t>
            </a:r>
            <a:r>
              <a:rPr b="0" lang="sr-CS" sz="4000" spc="-1" strike="noStrike">
                <a:solidFill>
                  <a:srgbClr val="000000"/>
                </a:solidFill>
                <a:latin typeface="Arial Cirilic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Идентификација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фактора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узрочних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и оних који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повећавају ризик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особе да оболи) повезаних са појавом болести тј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идентификација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узрока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 поремећаја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здравља (утврђивање узрочне повезаности између чинилаца и обољењ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тварање услова за превенирање обољења тј.изналажење и евалуација метода спречавања и сузбијања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604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Основ за планирање здравствене заштите и креирање здравствене политике ?</a:t>
            </a:r>
            <a:r>
              <a:rPr b="0" lang="sr-C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491920"/>
            <a:ext cx="860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Анализ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учесталости и дистрибуције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поремећаја здравља у попу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Испитивање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риродног тока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валуациј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постојећих и нових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ревентивних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и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терапијских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поступ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Евалуациј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фикасности здравствене сл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ОСНОВНА СТРАТЕГИЈА ЕПИДЕМИОЛОГИЈЕ РАДИ ОСТВАРИВАЊА ЦИЉЕВ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Уочавање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разлика и сличности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карактеристика поремећаја здравља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посматраним популационим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1:00:47Z</dcterms:created>
  <dc:creator>User</dc:creator>
  <dc:description/>
  <dc:language>en-US</dc:language>
  <cp:lastModifiedBy> </cp:lastModifiedBy>
  <dcterms:modified xsi:type="dcterms:W3CDTF">2017-01-09T12:13:45Z</dcterms:modified>
  <cp:revision>473</cp:revision>
  <dc:subject/>
  <dc:title>Slide 1</dc:title>
</cp:coreProperties>
</file>